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003F-A0B6-4386-92C9-639229F13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E96-A8E0-48A2-B377-D88F6CFC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 out Figure 3: Reading literacy proficiency levels (from p. 8 PISA 2009; Ou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entury learners at age 15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NZ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lacement at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ver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wide disp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green marker for NZ Pakeha/European students, the blue marker for Asian students, the red marker for Maori students and the yellow marker for Pasifika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87E-AACD-413F-81B8-63BF4F07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F73-9AB5-4FBD-878C-666D3722B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achievement standard you have brought. Is it continuous or non-continuous tex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implications for subject specific litera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902D-6FCF-423C-AB4A-44659EAA1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achievement standard require in these ar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D4AB-642A-4AC2-9644-C4653E7B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achievement standard you have brought require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evaluat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What are the implic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522D-81FE-4E8E-863B-6F4615B1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indings align the questionnaire students completed with their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lining has been shown to be an unsuccessful strategy with low-achieving students (not PISA rese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ing what they read with others – very important. What opportunities do students get to do this in your learning are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795-BD0F-432E-80A7-E822B798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achievement standard require summari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huge gap – more than a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946A-1492-4E1C-938E-9E84D2CC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learning (including literacy goals) clear to the stud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ategies are used to ensure students understand what they re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most important thing (e.g. 3, 2, 1 RI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help students look for clarifying information? (annotation strate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F551-7E1B-4497-881C-8E095BD5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 Meeting Notes (2/05/12 14:14) 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091-A363-408F-B9F7-5BD90287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F67-95E2-4F4D-BFF3-ACECD4E4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9D9-E6FF-4C55-ADBD-91776A1E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AFA-25F8-4A02-A88A-EA5D317E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– 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oing to give you 10 questions to establish your prior knowledge of PISA. When you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 finished, let me know and 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l give you the answers. Put a circle around any questions you want to discuss. You will not be asked at any stage to reveal how many questions you got r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078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078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078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1"/>
          <p:cNvSpPr/>
          <p:nvPr/>
        </p:nvSpPr>
        <p:spPr>
          <a:xfrm>
            <a:off x="0" y="0"/>
            <a:ext cx="5486400" cy="914400"/>
          </a:xfrm>
          <a:prstGeom prst="rect">
            <a:avLst/>
          </a:prstGeom>
          <a:solidFill>
            <a:srgbClr val="da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9" descr="6835_powerpoint_v2"/>
          <p:cNvPicPr/>
          <p:nvPr/>
        </p:nvPicPr>
        <p:blipFill>
          <a:blip r:embed="rId2"/>
          <a:stretch/>
        </p:blipFill>
        <p:spPr>
          <a:xfrm>
            <a:off x="0" y="0"/>
            <a:ext cx="915516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logos-joint-bw-lowres.jpg"/>
          <p:cNvPicPr/>
          <p:nvPr/>
        </p:nvPicPr>
        <p:blipFill>
          <a:blip r:embed="rId3"/>
          <a:stretch/>
        </p:blipFill>
        <p:spPr>
          <a:xfrm>
            <a:off x="5638680" y="228600"/>
            <a:ext cx="287676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5497560" y="5319720"/>
            <a:ext cx="364644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FOED Logo"/>
          <p:cNvPicPr/>
          <p:nvPr/>
        </p:nvPicPr>
        <p:blipFill>
          <a:blip r:embed="rId4"/>
          <a:stretch/>
        </p:blipFill>
        <p:spPr>
          <a:xfrm>
            <a:off x="7010280" y="5943600"/>
            <a:ext cx="18590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rthland Secondary Literacy Clus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nior Literacy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dnesday 2 M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len Panayiod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.panayiodou@auckland.ac.n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does NZ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 performance look like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2708280"/>
          <a:ext cx="7772400" cy="2865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/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k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CD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ori, Slovenia, 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did PISA reading literacy test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ading tasks covered 3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 (the form of the reading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tinuous texts, non-continuous texts, mixed texts and multiple tex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encies or aspects (types of reading tasks or pro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ccess and retrieve, integrate and interpret, reflect and evalu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tuations or context (the use for which the text is construct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al, educational and occupational and public and scient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Continuous vs non-continuous tex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Z students performed strongly on tasks related to non-continuous texts (lists, diagrams, graphs, tables) – 532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s strong on continuous texts (sentences, paragraphs) – 518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countries did not have more than a 10 point difference between continuous and non-continuous text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males out-performed males in both types but the gap was wider with continuous tex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Access and retrieve, integrate and interpr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students performed strongly in this ar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countries outperformed N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had a significant gap between males and females in this area (40 poin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ings: reflect and evalu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students performed very strongly in this ar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Shanghai-China, Korea and Hong-Kong China outperformed N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Z had one of the widest gaps between males and females in this area (50 poin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udents</a:t>
            </a:r>
            <a:r>
              <a:rPr b="1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use of literacy strategie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who use appropriate strategies to understand and remember what they read performed 73 points higher than students who use strategies the least. Strategi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lining important parts in the tex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ing what they read with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mmarising inform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ap between students who know most about summarising and those who know the least is 107 poi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hieving student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gure out what they need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they understand what they 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gure out concepts they have not fully gras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y and remember the most important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dditional clarifying information when they d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understand what they have 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’s wro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re you going to use this group activity or game with this cla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 don’t think 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Games don’t seem to work with the class I have at the moment. They usually do, but not with this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at’s stran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 know. I used to love these games when I was at school. I don’t know what’s wrong with the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99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probably nothing wrong with Lisa’s class. It is likely that as a group they have a learning style that prefers different types of learning activities. They are making assumptions that becaus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joy these activiti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udents will. Lisa should talk to her students directly and find out exactly what they like. A learning style quiz would help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11280" y="162864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2 truths and a lie on a piece of pap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 and disclose your 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28638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students have different learning styles. This affects the way they behave in the classroom and their response to different material and activities. Common learning styles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luency-foc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uracy foc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mportant to realise that each learning style is a continuum and all students will have a mixture of learning styles, however one will stand ou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907560"/>
            <a:ext cx="79898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Teachers face a broad diversity of learners in their classrooms. Students come into the classroom with a wide range of experiences and skil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eachers need 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cognise the unique talents and skills of each stu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spond to different learning 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cknowledge cultural d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dapt instruction for students with special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125000"/>
            <a:ext cx="77724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dentify ways you can adapt your teaching to reach a broader range of learning styles among your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lan adjustments in your teaching to anticipate the needs of students with learn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dentify the hallmarks of culturally responsive teaching and how they can be appl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3" descr=""/>
          <p:cNvPicPr/>
          <p:nvPr/>
        </p:nvPicPr>
        <p:blipFill>
          <a:blip r:embed="rId1"/>
          <a:srcRect l="-5263" t="0" r="-5263" b="0"/>
          <a:stretch/>
        </p:blipFill>
        <p:spPr>
          <a:xfrm>
            <a:off x="755640" y="1557360"/>
            <a:ext cx="784872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"/>
          <p:cNvPicPr/>
          <p:nvPr/>
        </p:nvPicPr>
        <p:blipFill>
          <a:blip r:embed="rId1"/>
          <a:srcRect l="-313" t="8742" r="2556" b="5192"/>
          <a:stretch/>
        </p:blipFill>
        <p:spPr>
          <a:xfrm>
            <a:off x="684360" y="765000"/>
            <a:ext cx="77724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earning Inten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dentify the needs of this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the programs/cour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strategies to support achievement and eng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raise knowledge around students with special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259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Outline of the 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9.00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Welcome/Housekee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55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Introduction to liter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55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PISA 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WO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Knowing the lear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10.30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Morning Tea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12.30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ゴシック"/>
              </a:rPr>
              <a:t>Lunch 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election of stud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trategie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Surveys What nex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MS P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 model for teaching and learning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Sideshow Clown 2"/>
          <p:cNvPicPr/>
          <p:nvPr/>
        </p:nvPicPr>
        <p:blipFill>
          <a:blip r:embed="rId1"/>
          <a:stretch/>
        </p:blipFill>
        <p:spPr>
          <a:xfrm>
            <a:off x="4067280" y="4005360"/>
            <a:ext cx="354960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ideshow Clown 2"/>
          <p:cNvPicPr/>
          <p:nvPr/>
        </p:nvPicPr>
        <p:blipFill>
          <a:blip r:embed="rId2"/>
          <a:srcRect l="16300" t="0" r="16300" b="0"/>
          <a:stretch/>
        </p:blipFill>
        <p:spPr>
          <a:xfrm>
            <a:off x="1403280" y="2637000"/>
            <a:ext cx="27957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py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교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문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,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그리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그들이하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짓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문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...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학생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결과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차이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수있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연습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가르치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교육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, 2003a, 8-9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ppleGothic"/>
              </a:rPr>
              <a:t>페이지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Your role - How are your roles similar/different?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1989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al and professional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 in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received from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first language with students/att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listening/sp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reading/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tisfying/difficul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ggest 2 ways your role in the school could be strengthe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Teachers matter, and what they do matters….Teaching practice can make a major difference to student out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BES Ministry of Education, 2003a, pages 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ISA and its implications for subject specific literac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e/False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2:24:58Z</dcterms:created>
  <dc:creator>Studio 4</dc:creator>
  <dc:description/>
  <dc:language>en-US</dc:language>
  <cp:lastModifiedBy>An Employee of</cp:lastModifiedBy>
  <cp:lastPrinted>2012-04-26T00:11:20Z</cp:lastPrinted>
  <dcterms:modified xsi:type="dcterms:W3CDTF">2012-05-08T22:39:40Z</dcterms:modified>
  <cp:revision>46</cp:revision>
  <dc:subject/>
  <dc:title>PowerPoint Presentation</dc:title>
</cp:coreProperties>
</file>